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7717-82BB-4FF5-9BED-81006A5B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3F6-92BB-4412-9C7B-B51A83E6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957-F249-4727-AA08-5E8E5BAD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724-E0A0-40C6-8C40-7F581D16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0642-3299-4645-BFA5-D8D2CDFD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66C5-AF95-4664-BA4A-BE220EA2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B8DE-FE13-4037-B58D-BB31CD9A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0F56-0975-4990-B4D6-A623DD9E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6620-A0D6-4639-918A-EE29262C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470A-C9F2-4007-9738-BE0FC0E2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1C67-0B24-4AFC-BE12-80552C76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C2D-D859-4031-AA7B-B6CA4FD7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DFE1-C1E9-4CCF-B7E5-2CF67FE7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63E6-ED74-463B-910F-B3815F9C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79C3-5C63-4B18-B644-EA297FC1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B129-5188-4A3F-A54D-40793D1B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714B-DB2B-4300-9D91-D057CB9B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A1B-C152-495F-B967-E404AEB7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42C2-EEF9-478E-A171-E8468B55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D1B-FBBA-49F7-AB80-D7356120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D78E-918F-4C66-AC68-FFB0324C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AFCB-2C8A-4DAC-8D07-B2D9E185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0769-EB84-4F6B-B141-36A937F7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7810-71D7-40D7-8574-308915C1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7844-5201-4FEE-8F8C-2D6C2581F3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1B2C-3B79-4ABE-89E0-273C3AB29DA4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Konceptuální rámec výzkumu -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úko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64-T"/>
          <p:cNvPicPr/>
          <p:nvPr/>
        </p:nvPicPr>
        <p:blipFill>
          <a:blip r:embed="rId1"/>
          <a:stretch/>
        </p:blipFill>
        <p:spPr>
          <a:xfrm>
            <a:off x="2627280" y="260280"/>
            <a:ext cx="34066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Techniky sběru a analýzy d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Předpokládané přínosy výzkumu pro teorii/věd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Předpokládané přínosy výzkumu pro prax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Použité zdroj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ázev disertační prá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méno a příjmení doktor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méno a příjmení školite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Oblast výzkum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Literární rešerš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Výzkumný problém a hlavní cíl výzkum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ýzkumné otáz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Dílčí výzkumné cí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Hypotéz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olba met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2T20:27:22Z</dcterms:created>
  <dc:creator>Pavelková Drahomíra</dc:creator>
  <dc:description/>
  <dc:language>en-US</dc:language>
  <cp:lastModifiedBy>Drahomíra Pavelková</cp:lastModifiedBy>
  <dcterms:modified xsi:type="dcterms:W3CDTF">2019-09-11T19:13:49Z</dcterms:modified>
  <cp:revision>2</cp:revision>
  <dc:subject/>
  <dc:title>      Konceptuální rámec výzkumu - úk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